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9A19BB-B732-4A53-BAF3-7F9DE8112D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47B37-E855-48F4-99B4-6501C507B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5A3195-6A50-4E52-A3C3-4714883596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D8B0DD-F3B7-42AB-9552-EAEAE35A0C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68A574-8ADD-415E-8FF9-411F8D6A37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4AD61F-AA50-4461-A915-B4AB546382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E76747-B957-4FAE-A7FD-CAA05F16F7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ABCB32-6CA6-4561-A677-27BC5D215B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E0C1AF-77C6-430C-8164-3EC6EA9EEE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C1536D-A6E4-4503-86A5-EB66089F7C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57FE81-3A41-4004-925E-A7F9C3F203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AF347-F227-4B17-A88E-EA8C3116B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521AB5-F485-4112-898F-32808276F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4F2696-314B-48E1-A695-EF70817133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7D1E92-3C3E-42A4-B08E-DF5D85760D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DC8772-951E-40A9-AB4C-9A1540F2A7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E5E726-1808-41CF-9525-0E0A97C82F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72DC5-4C81-4410-A2ED-A0767A925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0651B-7484-496A-B09F-667B60519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1E2D3-874A-4838-96B7-9CED063F4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59E7E-051A-4544-9729-EF7411A13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074AD-EC64-4693-AF40-B782D136C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A1183-ACA6-4D67-B26C-BD32F707D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D7AF1-15D0-4687-9820-2094D240C9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9FA51-AEE3-4EEE-B4A6-D984CB5B753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A977B-9E4D-49F4-B6EC-A796501D0DA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Gettysburg Address</a:t>
            </a:r>
            <a:endParaRPr b="1" lang="en-US" sz="5400" spc="-1" strike="noStrike">
              <a:solidFill>
                <a:srgbClr val="ffffb7"/>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en by Abraham Lincoln</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llusion</a:t>
            </a:r>
            <a:endParaRPr b="1" lang="en-US" sz="4400" spc="-1" strike="noStrike">
              <a:solidFill>
                <a:srgbClr val="ffffb7"/>
              </a:solidFill>
              <a:latin typeface="Arial Black"/>
            </a:endParaRPr>
          </a:p>
        </p:txBody>
      </p:sp>
      <p:sp>
        <p:nvSpPr>
          <p:cNvPr id="118" name="PlaceHolder 2"/>
          <p:cNvSpPr>
            <a:spLocks noGrp="1"/>
          </p:cNvSpPr>
          <p:nvPr>
            <p:ph/>
          </p:nvPr>
        </p:nvSpPr>
        <p:spPr>
          <a:xfrm>
            <a:off x="837720" y="1447560"/>
            <a:ext cx="8007480" cy="51051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llusion is a reference to a work of literature, or to a person, place, or event outside of literature, with which a writer to speaker expects an audience to be familiar.</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Four score and seven years ago” is an allusion to the American Revolution.</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urpose of the allusion is to link the image of freedom from the American Revolution to the freedom of all Americans as the purpose of the Civil Wa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naphora and Epistrophe</a:t>
            </a:r>
            <a:endParaRPr b="1" lang="en-US" sz="4400" spc="-1" strike="noStrike">
              <a:solidFill>
                <a:srgbClr val="ffffb7"/>
              </a:solidFill>
              <a:latin typeface="Arial Black"/>
            </a:endParaRPr>
          </a:p>
        </p:txBody>
      </p:sp>
      <p:sp>
        <p:nvSpPr>
          <p:cNvPr id="120" name="PlaceHolder 2"/>
          <p:cNvSpPr>
            <a:spLocks noGrp="1"/>
          </p:cNvSpPr>
          <p:nvPr>
            <p:ph/>
          </p:nvPr>
        </p:nvSpPr>
        <p:spPr>
          <a:xfrm>
            <a:off x="837720" y="1905120"/>
            <a:ext cx="800748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We cannot dedicate… we cannot consecrate... we cannot hallow this ground.” This is an example of an anaphora where “we cannot” is repeated at the beginning of each phrase.</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government of the people, by the people, for the people” This is an example of an epistrophe because “the people” is repeated at the end of each phrase. </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urpose of using an anaphora and an epistrophe is to establish a rhythm which produces a strong emotional effec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ersonification</a:t>
            </a:r>
            <a:endParaRPr b="1" lang="en-US" sz="4400" spc="-1" strike="noStrike">
              <a:solidFill>
                <a:srgbClr val="ffffb7"/>
              </a:solidFill>
              <a:latin typeface="Arial Black"/>
            </a:endParaRPr>
          </a:p>
        </p:txBody>
      </p:sp>
      <p:sp>
        <p:nvSpPr>
          <p:cNvPr id="122" name="PlaceHolder 2"/>
          <p:cNvSpPr>
            <a:spLocks noGrp="1"/>
          </p:cNvSpPr>
          <p:nvPr>
            <p:ph/>
          </p:nvPr>
        </p:nvSpPr>
        <p:spPr>
          <a:xfrm>
            <a:off x="837720" y="1676160"/>
            <a:ext cx="800748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onificaiton is a metaphor in which either an inanimate object or an abstract concept is described as being endowed with human attributes, powers, or feeling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at nation might live” this is an example of personification, a nation given life.</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onification is used to give vivid images to the audience so that they are able to rela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syndeton</a:t>
            </a:r>
            <a:endParaRPr b="1" lang="en-US" sz="4400" spc="-1" strike="noStrike">
              <a:solidFill>
                <a:srgbClr val="ffffb7"/>
              </a:solidFill>
              <a:latin typeface="Arial Black"/>
            </a:endParaRPr>
          </a:p>
        </p:txBody>
      </p:sp>
      <p:sp>
        <p:nvSpPr>
          <p:cNvPr id="124" name="PlaceHolder 2"/>
          <p:cNvSpPr>
            <a:spLocks noGrp="1"/>
          </p:cNvSpPr>
          <p:nvPr>
            <p:ph/>
          </p:nvPr>
        </p:nvSpPr>
        <p:spPr>
          <a:xfrm>
            <a:off x="837720" y="1904760"/>
            <a:ext cx="8007480" cy="46479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yndeton is the deliberate omission of conjunctions between a series of related clauses, phrases, or word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government of the people, by the people, for the people” is an example of an asyndeton because there are no conjunctions used where there are suppose to be conjunction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urpose of using an asyndeton is to produce a hurried rhythm and an emotional reac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esentation By:</a:t>
            </a:r>
            <a:endParaRPr b="1" lang="en-US" sz="4400" spc="-1" strike="noStrike">
              <a:solidFill>
                <a:srgbClr val="ffffb7"/>
              </a:solidFill>
              <a:latin typeface="Arial Black"/>
            </a:endParaRPr>
          </a:p>
        </p:txBody>
      </p:sp>
      <p:sp>
        <p:nvSpPr>
          <p:cNvPr id="12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ley Kavelak</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aron Dyer</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ex Lock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peaker: Abraham Lincoln</a:t>
            </a:r>
            <a:endParaRPr b="1" lang="en-US" sz="4400" spc="-1" strike="noStrike">
              <a:solidFill>
                <a:srgbClr val="ffffb7"/>
              </a:solidFill>
              <a:latin typeface="Arial Black"/>
            </a:endParaRPr>
          </a:p>
        </p:txBody>
      </p:sp>
      <p:sp>
        <p:nvSpPr>
          <p:cNvPr id="101" name="PlaceHolder 2"/>
          <p:cNvSpPr>
            <a:spLocks noGrp="1"/>
          </p:cNvSpPr>
          <p:nvPr>
            <p:ph/>
          </p:nvPr>
        </p:nvSpPr>
        <p:spPr>
          <a:xfrm>
            <a:off x="228240" y="1904760"/>
            <a:ext cx="47242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6th President of the United State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ech given during the Civil War.</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rm: 1861-1865</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vil War:1861-1865</a:t>
            </a:r>
            <a:endParaRPr b="0" lang="en-US" sz="3200" spc="-1" strike="noStrike">
              <a:solidFill>
                <a:srgbClr val="ffffff"/>
              </a:solidFill>
              <a:latin typeface="Arial"/>
            </a:endParaRPr>
          </a:p>
        </p:txBody>
      </p:sp>
      <p:pic>
        <p:nvPicPr>
          <p:cNvPr id="102" name="" descr=""/>
          <p:cNvPicPr/>
          <p:nvPr/>
        </p:nvPicPr>
        <p:blipFill>
          <a:blip r:embed="rId1"/>
          <a:stretch/>
        </p:blipFill>
        <p:spPr>
          <a:xfrm>
            <a:off x="5029200" y="1523880"/>
            <a:ext cx="3809880" cy="504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urpose: To honor those who died in the Civil War.</a:t>
            </a:r>
            <a:endParaRPr b="1" lang="en-US" sz="4400" spc="-1" strike="noStrike">
              <a:solidFill>
                <a:srgbClr val="ffffb7"/>
              </a:solidFill>
              <a:latin typeface="Arial Black"/>
            </a:endParaRPr>
          </a:p>
        </p:txBody>
      </p:sp>
      <p:sp>
        <p:nvSpPr>
          <p:cNvPr id="10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ham Lincoln gave the Gettysburg Address on the battlefield at Gettysburg during the dedication of the Gettysburg cemetery.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ham Lincoln was trying to portray the purpose of the war and the brave men fighting and dying for freedo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udience: Americans</a:t>
            </a:r>
            <a:endParaRPr b="1" lang="en-US" sz="4400" spc="-1" strike="noStrike">
              <a:solidFill>
                <a:srgbClr val="ffffb7"/>
              </a:solidFill>
              <a:latin typeface="Arial Black"/>
            </a:endParaRPr>
          </a:p>
        </p:txBody>
      </p:sp>
      <p:sp>
        <p:nvSpPr>
          <p:cNvPr id="10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ham Lincoln is talking to American citizens in 1863 about the Civil War that is taking place in their country.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ericans are suppose to realize what the Union is fighting for and how important the lives lost are to gaining true freedom throughout the United Sta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edium: Outside Venue</a:t>
            </a:r>
            <a:endParaRPr b="1" lang="en-US" sz="4400" spc="-1" strike="noStrike">
              <a:solidFill>
                <a:srgbClr val="ffffb7"/>
              </a:solidFill>
              <a:latin typeface="Arial Black"/>
            </a:endParaRPr>
          </a:p>
        </p:txBody>
      </p:sp>
      <p:sp>
        <p:nvSpPr>
          <p:cNvPr id="10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ham Lincoln presents the Gettysburg Address at the battlefield where all of the soldiers had been fighti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peaks to a large crowd that are very much impacted by the representation and effect of the speech at the Gettysburg cemetery dedicat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ogos- Appeal to Logic</a:t>
            </a:r>
            <a:endParaRPr b="1" lang="en-US" sz="4400" spc="-1" strike="noStrike">
              <a:solidFill>
                <a:srgbClr val="ffffb7"/>
              </a:solidFill>
              <a:latin typeface="Arial Black"/>
            </a:endParaRPr>
          </a:p>
        </p:txBody>
      </p:sp>
      <p:sp>
        <p:nvSpPr>
          <p:cNvPr id="110" name="PlaceHolder 2"/>
          <p:cNvSpPr>
            <a:spLocks noGrp="1"/>
          </p:cNvSpPr>
          <p:nvPr>
            <p:ph/>
          </p:nvPr>
        </p:nvSpPr>
        <p:spPr>
          <a:xfrm>
            <a:off x="837720" y="1523520"/>
            <a:ext cx="8007480" cy="5334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gos is found in the Gettysburg Address when Lincoln says, “We have come to dedicate a portion of that field as a final resting place for those who here gave their lives that that nation might live. It is altogether fitting and proper that we should do thi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logical that it is “fitting and proper” that the battleground cemetery be dedicated to the soldiers who gave their lives at the battlegroun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athos- Appeal to Audience’s Emotion</a:t>
            </a:r>
            <a:endParaRPr b="1" lang="en-US" sz="4400" spc="-1" strike="noStrike">
              <a:solidFill>
                <a:srgbClr val="ffffb7"/>
              </a:solidFill>
              <a:latin typeface="Arial Black"/>
            </a:endParaRPr>
          </a:p>
        </p:txBody>
      </p:sp>
      <p:sp>
        <p:nvSpPr>
          <p:cNvPr id="112" name="PlaceHolder 2"/>
          <p:cNvSpPr>
            <a:spLocks noGrp="1"/>
          </p:cNvSpPr>
          <p:nvPr>
            <p:ph/>
          </p:nvPr>
        </p:nvSpPr>
        <p:spPr>
          <a:xfrm>
            <a:off x="837720" y="1905120"/>
            <a:ext cx="800748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Gettysburg Address, Abraham Lincoln uses “we” instead of “I” when speaking. This appeals to the audience’s emotion because Lincoln is including the audience in the way he feels about the Civil War and the people who are fighting, making the audience believe that they feel the same way that he do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thos- Appeal to Speaker’s Credibility</a:t>
            </a:r>
            <a:endParaRPr b="1" lang="en-US" sz="4400" spc="-1" strike="noStrike">
              <a:solidFill>
                <a:srgbClr val="ffffb7"/>
              </a:solidFill>
              <a:latin typeface="Arial Black"/>
            </a:endParaRPr>
          </a:p>
        </p:txBody>
      </p:sp>
      <p:sp>
        <p:nvSpPr>
          <p:cNvPr id="114" name="PlaceHolder 2"/>
          <p:cNvSpPr>
            <a:spLocks noGrp="1"/>
          </p:cNvSpPr>
          <p:nvPr>
            <p:ph/>
          </p:nvPr>
        </p:nvSpPr>
        <p:spPr>
          <a:xfrm>
            <a:off x="762120" y="1828800"/>
            <a:ext cx="800712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 Gettysburg Address was given, Abraham Lincoln was the President of the United States. He was President during the duration of the war. This makes him credible because he knows why the war is taking place and the goal of freedom that is being obtained. His beliefs are the reason that the war is going 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ythos- Appeal to Tradition</a:t>
            </a:r>
            <a:endParaRPr b="1" lang="en-US" sz="4400" spc="-1" strike="noStrike">
              <a:solidFill>
                <a:srgbClr val="ffffb7"/>
              </a:solidFill>
              <a:latin typeface="Arial Black"/>
            </a:endParaRPr>
          </a:p>
        </p:txBody>
      </p:sp>
      <p:sp>
        <p:nvSpPr>
          <p:cNvPr id="11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our fathers brought forth upon this continent a new nation: conceived in liberty, and dedicated to the proposition that all men are created equal.”</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se honored dead”</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are examples of mythos because they are relating to the past and how things have always been.</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ythos is used to make the audience think that violating tradition is not appropriat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2T20:38:49Z</dcterms:created>
  <dc:creator>Haley</dc:creator>
  <dc:description/>
  <dc:language>en-US</dc:language>
  <cp:lastModifiedBy>Haley</cp:lastModifiedBy>
  <dcterms:modified xsi:type="dcterms:W3CDTF">2008-04-13T18:14:54Z</dcterms:modified>
  <cp:revision>11</cp:revision>
  <dc:subject/>
  <dc:title>Slide 1</dc:title>
</cp:coreProperties>
</file>